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419-F034-4524-B333-296A23D6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2DE-E55A-49F2-B725-B41C2A0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FA7-646B-4722-BB89-01ADA278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502-302F-479F-A257-855B30CC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FE43-9988-4075-B25F-226B6BE2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7102-9407-4D9F-BCA0-EB7C5C5B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EB59-A333-4BC2-98B1-7BB9C587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05D4-4C7F-4FEB-9BFD-97602F91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46DB-915D-4EEE-87FA-F9C9CA59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EEE0-7158-4A49-A25D-F1943389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BB6E-4B50-4375-BEB2-8052D174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C74-188A-4C8A-B7C1-E7AD0A0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A030-97A6-45E6-BAB5-19ACB63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2218-F27C-4AFB-9984-6FE8DE5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6015-7D04-4D53-8DD3-18624B1C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3CDE-405A-4A4C-AE61-ABF7B969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88C0-1C29-4B39-A507-9EDFF56B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9A76-123E-4FB9-BC01-EAF93441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1B11-036A-4D13-8C41-3F2A216C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EDEC-09DA-40F4-A5F9-B5B2CDA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2BEE-7A11-4DBF-B226-EB698666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7401-91D8-4794-8468-B6DC19B5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5A9-5A88-4778-8C1F-9B48EA65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3FC6-7BCF-467E-AD48-F4362635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5DA5-D5AA-4329-B5D6-32995538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76C7-33FB-4DBC-9ABC-54DA302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9FA72-A1FF-4E21-8BFD-BD7E261D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4461-C416-45A2-A687-3B19664C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422E-BC7D-4F98-A407-FF62D6D1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7B87-1641-4143-B59F-D81FE546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B261-1176-4165-A352-BC5E9079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B858-BE6A-448E-AFF6-F3F7B9C7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81C6-17CA-4C0D-BF15-98F6EE21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B61-C12A-43E7-9F06-1ED27921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BF50-F95B-4ED9-ADAF-A4BADD87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0F20-32AD-4C14-9C6D-FE2127A4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CA63-CF94-4E06-9147-C35EAA8D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51DF-63F6-4653-A841-67B6D43E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C8CD6-D15A-4191-B34F-307268F2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2386-A357-46B3-972F-DC1745BE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209F-ECEB-4780-A005-7144A081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636B9-7D92-4D32-A4CA-EBB8B2A8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B10D-2E35-4C6F-8676-90DDF9B0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F08-7AC2-491F-BAB3-0FEC71B7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49F-3A21-451F-80A4-38FD53AD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D15-2140-4395-B039-F882C235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44F-C9AB-4522-BEA6-633C48F7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8DF-19E9-4B0E-9238-5637C150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D2B8-17D2-4A88-842E-BCCE7CA72A98}" type="datetime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AC8-8274-4987-A0FE-EB2FEF2B254F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FCAB-7AAE-4023-9DA3-71EDA5CFBD37}" type="datetime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D3D1-5BCA-4708-8E66-2F68A2763382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D90-0EDA-43BE-8AB6-6B032B3B0013}" type="datetime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C493-EE71-4538-8D72-2C8B25E0264E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DD1F-03D9-4C08-8CE7-0164C6826578}" type="datetime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25AD-AF25-429E-9E22-0CEA0CF01622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EFB9-24CD-44F8-9102-29E569E81A26}" type="slidenum"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/>
          <p:nvPr/>
        </p:nvSpPr>
        <p:spPr>
          <a:xfrm>
            <a:off x="2268360" y="177336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Та</a:t>
            </a:r>
            <a:r>
              <a:rPr b="1" i="1" lang="kk-KZ" sz="3600" spc="-1" strike="noStrike">
                <a:solidFill>
                  <a:srgbClr val="ffcc00"/>
                </a:solidFill>
                <a:latin typeface="Times New Roman"/>
              </a:rPr>
              <a:t>қырыбы № </a:t>
            </a: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13    </a:t>
            </a:r>
            <a:r>
              <a:rPr b="1" i="1" lang="kk-KZ" sz="3600" spc="-1" strike="noStrike">
                <a:solidFill>
                  <a:srgbClr val="ffcc00"/>
                </a:solidFill>
                <a:latin typeface="Times New Roman"/>
              </a:rPr>
              <a:t> Қаржы рыног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дай-ақ кредит рыногы түрінде де іс-эрекет етеді. Қаржы рыногы экономиканың түрлі шаруашылық жүргізуші субъектілері арасында ақшаны қайта бөлуді барлық әр түрлі нысанда реттейтін рыноктық қатынастардың бүкіл жиынтығын біріктіретін неғүрлым жалпы (ортақ) ұғым болып табыла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анда бұлар, экономикалык әдебиеттерде және шаруашылык практикада каржы рыногы үғымы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қша, валюта, кредит, капитал рыноктарын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оса отырып кеңінен түсіндіріледі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94C2-2EBB-4EB7-889E-22AC9DBD9F38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Волна 7"/>
          <p:cNvSpPr/>
          <p:nvPr/>
        </p:nvSpPr>
        <p:spPr>
          <a:xfrm>
            <a:off x="785880" y="642960"/>
            <a:ext cx="7786800" cy="2714760"/>
          </a:xfrm>
          <a:custGeom>
            <a:avLst/>
            <a:gdLst>
              <a:gd name="textAreaLeft" fmla="*/ 0 w 7786800"/>
              <a:gd name="textAreaRight" fmla="*/ 7787160 w 7786800"/>
              <a:gd name="textAreaTop" fmla="*/ 678600 h 2714760"/>
              <a:gd name="textAreaBottom" fmla="*/ 203616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a3d0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қша рыног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геніміз колма-қол ақша ғана емес, колма-колсыз төлем каражаттарын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ыратын төлем каражаттарының рыног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Двойная волна 8"/>
          <p:cNvSpPr/>
          <p:nvPr/>
        </p:nvSpPr>
        <p:spPr>
          <a:xfrm>
            <a:off x="857160" y="3429000"/>
            <a:ext cx="7643880" cy="3000240"/>
          </a:xfrm>
          <a:custGeom>
            <a:avLst/>
            <a:gdLst>
              <a:gd name="textAreaLeft" fmla="*/ 0 w 7643880"/>
              <a:gd name="textAreaRight" fmla="*/ 7644240 w 7643880"/>
              <a:gd name="textAreaTop" fmla="*/ 374760 h 3000240"/>
              <a:gd name="textAreaBottom" fmla="*/ 2625480 h 30002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дит рыног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иелер бойынша банктердің кредит опсрацияларымен байланысты: бұған коммерциялық кредит те жата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қша мен кредит рыноктары, әдеттегідей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йналым активтерінің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озғалысына кызмет етед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Номер слайда 9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D2DB-5654-415E-86DF-B6434E2A8E0C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adb0b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қаржыны жалпы ақша мен құн категорияларына бара-бар категория ретінде қарастыратын практикамен, негізінен дүниежүзілік практикамен байланысты, өйткені экономикалык ресурстардың кез келген түрі меншіктің титулдары болып табылатын ақшамен немесе тиісті бағалы қағаздармен, басқа құжаттармен ортақтастырылуы мүмкі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A07D-7E55-4039-A2B9-34C876CBCC03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Горизонтальный свиток 3"/>
          <p:cNvSpPr/>
          <p:nvPr/>
        </p:nvSpPr>
        <p:spPr>
          <a:xfrm>
            <a:off x="714240" y="428760"/>
            <a:ext cx="7786800" cy="61434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итал рыногынд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ғамдық ондіріс катысушыларының орта және ұзақ мерзімді корланымдарының қозғалысы жүзеге асырыла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рыногында сатып алу-сатудың объсктілері айрық-шалықты тауарлар - ақша және бағалы (ақшалай) кағаздар болып табыла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рыногында бағалы кағаздардың қозғалысымен ортактастырылатын экономикалык катынастар болып табылатын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ғалы қағаздар рыног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ңызды орын ала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839D-B743-423F-B8DA-0AFD727B5F83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Блок-схема: альтернативный процесс 4"/>
          <p:cNvSpPr/>
          <p:nvPr/>
        </p:nvSpPr>
        <p:spPr>
          <a:xfrm>
            <a:off x="500040" y="285840"/>
            <a:ext cx="8143920" cy="1143000"/>
          </a:xfrm>
          <a:prstGeom prst="flowChartAlternateProcess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жы рыногының жүмыс істеуінің негізгі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ышарттарын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налар жатад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Блок-схема: процесс 5"/>
          <p:cNvSpPr/>
          <p:nvPr/>
        </p:nvSpPr>
        <p:spPr>
          <a:xfrm>
            <a:off x="642960" y="1571760"/>
            <a:ext cx="7929720" cy="2571480"/>
          </a:xfrm>
          <a:prstGeom prst="flowChartProcess">
            <a:avLst/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Бәсекені дамыту мен монополизмді шектеу максатындағ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дық өндіріс сферасының бастапқы шаруашылық буын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рының - меншіктің барлык нысандары шаруашылық жүргізуші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ілерінің, соның ішінде мемлекеттік сектордың да кең дер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ігі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Блок-схема: процесс 6"/>
          <p:cNvSpPr/>
          <p:nvPr/>
        </p:nvSpPr>
        <p:spPr>
          <a:xfrm>
            <a:off x="642960" y="4357800"/>
            <a:ext cx="7929720" cy="1857240"/>
          </a:xfrm>
          <a:prstGeom prst="flowChartProcess">
            <a:avLst/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Қаржы ресурстарын кайта бөлудегі мемлекет рөлінің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ысқаруы: инвестицияларды орталыктан қаржыландырудың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аражаттарды кэсіпорындар арасында ішкі ведомстволық қайт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удің азаю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Выгнутая вправо стрелка 12"/>
          <p:cNvSpPr/>
          <p:nvPr/>
        </p:nvSpPr>
        <p:spPr>
          <a:xfrm>
            <a:off x="8572680" y="928800"/>
            <a:ext cx="571320" cy="2286000"/>
          </a:xfrm>
          <a:custGeom>
            <a:avLst/>
            <a:gdLst>
              <a:gd name="textAreaLeft" fmla="*/ 76320 w 571320"/>
              <a:gd name="textAreaRight" fmla="*/ 495000 w 571320"/>
              <a:gd name="textAreaTop" fmla="*/ 517680 h 2286000"/>
              <a:gd name="textAreaBottom" fmla="*/ 169668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8" stAng="-5400000" swAng="5400000"/>
                <a:lnTo>
                  <a:pt x="21600" y="11138"/>
                </a:lnTo>
                <a:arcTo wR="21600" hR="9788" stAng="0" swAng="3619483"/>
                <a:lnTo>
                  <a:pt x="5400" y="21289"/>
                </a:lnTo>
                <a:lnTo>
                  <a:pt x="0" y="20250"/>
                </a:lnTo>
                <a:lnTo>
                  <a:pt x="5400" y="18589"/>
                </a:lnTo>
                <a:lnTo>
                  <a:pt x="5400" y="19264"/>
                </a:lnTo>
                <a:arcTo wR="21600" hR="9788" stAng="3619483" swAng="-3511832"/>
                <a:lnTo>
                  <a:pt x="21549" y="10463"/>
                </a:lnTo>
                <a:arcTo wR="21600" hR="9788" stAng="-107651" swAng="-5292349"/>
                <a:close/>
              </a:path>
              <a:path fill="darkenLess" w="21600" h="21600">
                <a:moveTo>
                  <a:pt x="0" y="0"/>
                </a:moveTo>
                <a:arcTo wR="21600" hR="9788" stAng="-5400000" swAng="5400000"/>
                <a:lnTo>
                  <a:pt x="21600" y="11138"/>
                </a:lnTo>
                <a:arcTo wR="21600" hR="9788" stAng="0" swAng="-107651"/>
                <a:lnTo>
                  <a:pt x="21549" y="10463"/>
                </a:lnTo>
                <a:arcTo wR="21600" hR="9788" stAng="-107651" swAng="-5292349"/>
                <a:close/>
              </a:path>
            </a:pathLst>
          </a:custGeom>
          <a:solidFill>
            <a:srgbClr val="ffff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Выгнутая влево стрелка 17"/>
          <p:cNvSpPr/>
          <p:nvPr/>
        </p:nvSpPr>
        <p:spPr>
          <a:xfrm>
            <a:off x="0" y="857160"/>
            <a:ext cx="571680" cy="3929040"/>
          </a:xfrm>
          <a:custGeom>
            <a:avLst/>
            <a:gdLst>
              <a:gd name="textAreaLeft" fmla="*/ 76320 w 571680"/>
              <a:gd name="textAreaRight" fmla="*/ 495360 w 571680"/>
              <a:gd name="textAreaTop" fmla="*/ 928440 h 3929040"/>
              <a:gd name="textAreaBottom" fmla="*/ 2928960 h 39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211" stAng="-5400000" swAng="-5400000"/>
                <a:lnTo>
                  <a:pt x="0" y="10996"/>
                </a:lnTo>
                <a:arcTo wR="21600" hR="10211" stAng="10800000" swAng="-3681437"/>
                <a:lnTo>
                  <a:pt x="16200" y="21276"/>
                </a:lnTo>
                <a:lnTo>
                  <a:pt x="21600" y="20815"/>
                </a:lnTo>
                <a:lnTo>
                  <a:pt x="16200" y="19705"/>
                </a:lnTo>
                <a:lnTo>
                  <a:pt x="16200" y="20098"/>
                </a:lnTo>
                <a:arcTo wR="21600" hR="10211" stAng="7118563" swAng="3618930"/>
                <a:lnTo>
                  <a:pt x="16" y="10604"/>
                </a:lnTo>
                <a:arcTo wR="21600" hR="10211" stAng="-10737492" swAng="5337492"/>
                <a:close/>
              </a:path>
              <a:path fill="darkenLess" w="21600" h="21600">
                <a:moveTo>
                  <a:pt x="21600" y="0"/>
                </a:moveTo>
                <a:arcTo wR="21600" hR="10211" stAng="-5400000" swAng="-5400000"/>
                <a:lnTo>
                  <a:pt x="0" y="10211"/>
                </a:lnTo>
                <a:arcTo wR="21600" hR="10211" stAng="10800000" swAng="-62508"/>
                <a:lnTo>
                  <a:pt x="16" y="10604"/>
                </a:lnTo>
                <a:arcTo wR="21600" hR="10211" stAng="-10737492" swAng="5337492"/>
                <a:close/>
              </a:path>
            </a:pathLst>
          </a:custGeom>
          <a:solidFill>
            <a:srgbClr val="ffff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Номер слайда 1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BDC4-49B6-4C1E-A05A-DE69A7D149BF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334B-D241-4098-BD91-E0E40EA5F54F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Схема 4" descr=""/>
          <p:cNvPicPr/>
          <p:nvPr/>
        </p:nvPicPr>
        <p:blipFill>
          <a:blip r:embed="rId2"/>
          <a:stretch/>
        </p:blipFill>
        <p:spPr>
          <a:xfrm>
            <a:off x="493560" y="268200"/>
            <a:ext cx="865692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8BD7-06C2-4AF7-8075-3A8F6C39FC3C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Выноска-облако 8"/>
          <p:cNvSpPr/>
          <p:nvPr/>
        </p:nvSpPr>
        <p:spPr>
          <a:xfrm>
            <a:off x="357120" y="0"/>
            <a:ext cx="8358120" cy="2214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ноктың барлык түрпаттарының өзара байланысы қаржы рыногының жұмыс істеу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рттарын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йшыктайды. Оған мыналар жатад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Прямоугольник с одним скругленным углом 10"/>
          <p:cNvSpPr/>
          <p:nvPr/>
        </p:nvSpPr>
        <p:spPr>
          <a:xfrm>
            <a:off x="428760" y="2857680"/>
            <a:ext cx="8501040" cy="1643040"/>
          </a:xfrm>
          <a:prstGeom prst="pie">
            <a:avLst/>
          </a:prstGeom>
          <a:solidFill>
            <a:srgbClr val="7030a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дит рыногының жандандырылуы, оның толық коммерциялануы, яғни кредит ресурстарын еркін рынокқа орналастыр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Прямоугольник с одним скругленным углом 11"/>
          <p:cNvSpPr/>
          <p:nvPr/>
        </p:nvSpPr>
        <p:spPr>
          <a:xfrm>
            <a:off x="428760" y="4786200"/>
            <a:ext cx="8429400" cy="1928880"/>
          </a:xfrm>
          <a:prstGeom prst="pie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з келген субъектінің қаржы ресурстарына қажеттілігі және оны қанағаттандырудың нақтылы көздерімен тура келмеуі қаржы рыногының жұмыс істеуінің объективті алғышарты болып табылад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Выгнутая влево стрелка 13"/>
          <p:cNvSpPr/>
          <p:nvPr/>
        </p:nvSpPr>
        <p:spPr>
          <a:xfrm>
            <a:off x="142920" y="1785960"/>
            <a:ext cx="642960" cy="3429000"/>
          </a:xfrm>
          <a:custGeom>
            <a:avLst/>
            <a:gdLst>
              <a:gd name="textAreaLeft" fmla="*/ 86040 w 642960"/>
              <a:gd name="textAreaRight" fmla="*/ 556920 w 642960"/>
              <a:gd name="textAreaTop" fmla="*/ 797040 h 3429000"/>
              <a:gd name="textAreaBottom" fmla="*/ 255168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1" stAng="-5400000" swAng="-5400000"/>
                <a:lnTo>
                  <a:pt x="0" y="11054"/>
                </a:lnTo>
                <a:arcTo wR="21600" hR="10041" stAng="10800000" swAng="-3656975"/>
                <a:lnTo>
                  <a:pt x="16200" y="21281"/>
                </a:lnTo>
                <a:lnTo>
                  <a:pt x="21600" y="20588"/>
                </a:lnTo>
                <a:lnTo>
                  <a:pt x="16200" y="19256"/>
                </a:lnTo>
                <a:lnTo>
                  <a:pt x="16200" y="19762"/>
                </a:lnTo>
                <a:arcTo wR="21600" hR="10041" stAng="7143025" swAng="3576275"/>
                <a:lnTo>
                  <a:pt x="28" y="10547"/>
                </a:lnTo>
                <a:arcTo wR="21600" hR="10041" stAng="-10719300" swAng="5319300"/>
                <a:close/>
              </a:path>
              <a:path fill="darkenLess" w="21600" h="21600">
                <a:moveTo>
                  <a:pt x="21600" y="0"/>
                </a:moveTo>
                <a:arcTo wR="21600" hR="10041" stAng="-5400000" swAng="-5400000"/>
                <a:lnTo>
                  <a:pt x="0" y="10041"/>
                </a:lnTo>
                <a:arcTo wR="21600" hR="10041" stAng="10800000" swAng="-80700"/>
                <a:lnTo>
                  <a:pt x="28" y="10547"/>
                </a:lnTo>
                <a:arcTo wR="21600" hR="10041" stAng="-10719300" swAng="5319300"/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Выгнутая вправо стрелка 14"/>
          <p:cNvSpPr/>
          <p:nvPr/>
        </p:nvSpPr>
        <p:spPr>
          <a:xfrm>
            <a:off x="7858080" y="1643040"/>
            <a:ext cx="500040" cy="1143000"/>
          </a:xfrm>
          <a:custGeom>
            <a:avLst/>
            <a:gdLst>
              <a:gd name="textAreaLeft" fmla="*/ 66960 w 500040"/>
              <a:gd name="textAreaRight" fmla="*/ 433080 w 500040"/>
              <a:gd name="textAreaTop" fmla="*/ 238680 h 1143000"/>
              <a:gd name="textAreaBottom" fmla="*/ 8416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28" stAng="-5400000" swAng="5400000"/>
                <a:lnTo>
                  <a:pt x="21600" y="11391"/>
                </a:lnTo>
                <a:arcTo wR="21600" hR="9028" stAng="0" swAng="3497645"/>
                <a:lnTo>
                  <a:pt x="5400" y="21313"/>
                </a:lnTo>
                <a:lnTo>
                  <a:pt x="0" y="19238"/>
                </a:lnTo>
                <a:lnTo>
                  <a:pt x="5400" y="16588"/>
                </a:lnTo>
                <a:lnTo>
                  <a:pt x="5400" y="17769"/>
                </a:lnTo>
                <a:arcTo wR="21600" hR="9028" stAng="3497645" swAng="-3308164"/>
                <a:lnTo>
                  <a:pt x="21414" y="10210"/>
                </a:lnTo>
                <a:arcTo wR="21600" hR="9028" stAng="-189481" swAng="-5210519"/>
                <a:close/>
              </a:path>
              <a:path fill="darkenLess" w="21600" h="21600">
                <a:moveTo>
                  <a:pt x="0" y="0"/>
                </a:moveTo>
                <a:arcTo wR="21600" hR="9028" stAng="-5400000" swAng="5400000"/>
                <a:lnTo>
                  <a:pt x="21600" y="11391"/>
                </a:lnTo>
                <a:arcTo wR="21600" hR="9028" stAng="0" swAng="-189481"/>
                <a:lnTo>
                  <a:pt x="21414" y="10210"/>
                </a:lnTo>
                <a:arcTo wR="21600" hR="9028" stAng="-189481" swAng="-5210519"/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043A-A539-463B-91B2-B79DE0B2E44C}" type="slidenum">
              <a:rPr b="0" lang="en-US" sz="24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Овал 2"/>
          <p:cNvSpPr/>
          <p:nvPr/>
        </p:nvSpPr>
        <p:spPr>
          <a:xfrm>
            <a:off x="1285920" y="1000080"/>
            <a:ext cx="6858000" cy="13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ор кұндылыктар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714240" y="2857680"/>
            <a:ext cx="7786800" cy="1500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поративтік бағалы қагаздардың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кциялар мсн облигациялардың айналысымен байланысты болатын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ор рыногын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эн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лекеттің бағалы қагаздар рыногын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ріктірсд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928800" y="4714920"/>
            <a:ext cx="7572240" cy="164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Қор рыногы» термині бастапкыда бағалы қағаздармсн мәміле жасалынатын және ресімделінстін мекемснің - қор биржасының атымсн байланыс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Стрелка вниз 5"/>
          <p:cNvSpPr/>
          <p:nvPr/>
        </p:nvSpPr>
        <p:spPr>
          <a:xfrm>
            <a:off x="3857760" y="2500200"/>
            <a:ext cx="135720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Выгнутая влево стрелка 6"/>
          <p:cNvSpPr/>
          <p:nvPr/>
        </p:nvSpPr>
        <p:spPr>
          <a:xfrm>
            <a:off x="285840" y="2214720"/>
            <a:ext cx="1214280" cy="300024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636120 h 3000240"/>
              <a:gd name="textAreaBottom" fmla="*/ 2212200 h 30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61" stAng="-5400000" swAng="-5400000"/>
                <a:lnTo>
                  <a:pt x="0" y="11346"/>
                </a:lnTo>
                <a:arcTo wR="21600" hR="9161" stAng="10800000" swAng="-3520050"/>
                <a:lnTo>
                  <a:pt x="16200" y="21309"/>
                </a:lnTo>
                <a:lnTo>
                  <a:pt x="21600" y="19415"/>
                </a:lnTo>
                <a:lnTo>
                  <a:pt x="16200" y="16938"/>
                </a:lnTo>
                <a:lnTo>
                  <a:pt x="16200" y="18031"/>
                </a:lnTo>
                <a:arcTo wR="21600" hR="9161" stAng="7279950" swAng="3345074"/>
                <a:lnTo>
                  <a:pt x="154" y="10254"/>
                </a:lnTo>
                <a:arcTo wR="21600" hR="9161" stAng="-10625025" swAng="5225025"/>
                <a:close/>
              </a:path>
              <a:path fill="darkenLess" w="21600" h="21600">
                <a:moveTo>
                  <a:pt x="21600" y="0"/>
                </a:moveTo>
                <a:arcTo wR="21600" hR="9161" stAng="-5400000" swAng="-5400000"/>
                <a:lnTo>
                  <a:pt x="0" y="9161"/>
                </a:lnTo>
                <a:arcTo wR="21600" hR="9161" stAng="10800000" swAng="-174975"/>
                <a:lnTo>
                  <a:pt x="154" y="10254"/>
                </a:lnTo>
                <a:arcTo wR="21600" hR="9161" stAng="-10625025" swAng="5225025"/>
                <a:close/>
              </a:path>
            </a:pathLst>
          </a:custGeom>
          <a:solidFill>
            <a:srgbClr val="fe8637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adb0b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гілікті бюджеттердің тапшылықтары облигациялар мен басқа міндеттемелердің айналысымен мемлекеттік қарыздарды шығарумен жабыла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жы рыногының маңыз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с ақша қаражаттарын жұмылдыру және оларды қайта бөлу жолымен ұдайы өндіріс үдерісіне ықпал етумен ғана айқындалып қоймайд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147C-61AB-4B8A-8E57-A4A5C621B489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F5E8-992F-4DC5-BB00-FFA2986F9929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Схема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654760" cy="6229080"/>
          </a:xfrm>
          <a:prstGeom prst="rect">
            <a:avLst/>
          </a:prstGeom>
          <a:ln w="0">
            <a:noFill/>
          </a:ln>
        </p:spPr>
      </p:pic>
      <p:sp>
        <p:nvSpPr>
          <p:cNvPr id="266" name="Блок-схема: решение 3"/>
          <p:cNvSpPr/>
          <p:nvPr/>
        </p:nvSpPr>
        <p:spPr>
          <a:xfrm>
            <a:off x="2714760" y="2357280"/>
            <a:ext cx="3786120" cy="3286440"/>
          </a:xfrm>
          <a:prstGeom prst="flowChartDecision">
            <a:avLst/>
          </a:prstGeom>
          <a:solidFill>
            <a:srgbClr val="3668c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Constantia"/>
              </a:rPr>
              <a:t>Мемлекеттік</a:t>
            </a:r>
            <a:r>
              <a:rPr b="0" lang="kk-KZ" sz="1800" spc="-1" strike="noStrike">
                <a:solidFill>
                  <a:srgbClr val="ffffff"/>
                </a:solidFill>
                <a:latin typeface="Constantia"/>
              </a:rPr>
              <a:t> органның лицензиялау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eb6e5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спар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уашылық жүргізудің қазіргі жағдайында қарж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жы рыногының жүмыс істеуінің негізгі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ышартта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9AB4-656E-4D66-9115-FB6246AE9DC5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eb6e5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ңгейлес қозғалыс кезінде шаруашылық жүргізуші субъектілер арасында қаржы ресурстарын өтеусіз қайта бөлу түрінде төте байланыстар іс- эрекет етеді. Бұл каражаттарды маңызды сфералар мен объектілерге жедел аудару есебінен шаруашылық жүргізуші субъектілердің, салалардың және жалпы экономиканың қаржылык жағдайын тұрактандырад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4F64-E4C0-4BA7-B36D-B58A8A80F72E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e75c01"/>
          </a:solidFill>
          <a:ln w="9360">
            <a:solidFill>
              <a:srgbClr val="fe863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ялардың пакеттері оларды ұстаушылардың қолында болады, ұстаушылар дивидендтерден алған табыстармен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еттілік қанағаттанад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 компаниялардың өндірістік ерін қаржьшандыру ішкі көздер-бөлінбеген табыс, амортизациялық аударымдар, кредиторлық берешектер есебінен жүргізілед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3957-BC2D-44FF-BF1A-6770E794328C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орытынды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Сөйтіп, каржы рыногы қаржының қосалқы категориясы ретін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йта бөлгіштік қосалқы функц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ындайды, ал сонымен бірге экономикалық агенттерді дамыту және ұдайы өндірісті ұлғайту мақсаттарында олар каржы ресурстарымен қамтамасыз етілетідігіне Карағанда қаржы рыногы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дайы өндірістік функц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ындауы тиі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жы рыногы багалы қағаздардың бағасын белгілеу жолымен бизнестің нақтылы құнын бағалауға мүмкіндік береді: тиімді жұмыс істейтін шаруашылық жүргізуші субъектілерде олардың неғұрлым жоғары бағасы белгіленед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8DD1-7F3E-4A8A-BF4A-128FB1CCC79D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b32c16"/>
                </a:solidFill>
                <a:latin typeface="Calibri"/>
              </a:rPr>
              <a:t>Ма</a:t>
            </a:r>
            <a:r>
              <a:rPr b="1" lang="kk-KZ" sz="5000" spc="-1" strike="noStrike">
                <a:solidFill>
                  <a:srgbClr val="b32c16"/>
                </a:solidFill>
                <a:latin typeface="Calibri"/>
              </a:rPr>
              <a:t>қсаты: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Қаржылық нарықтың негізгі түсініктерімен (бағалы қағаз нарығы, бағалы қағаз түрлері, бағалы қағаз нарығына, қор биржасына қатысушылар, бағалы қағаз нарығының инфоқұрылымы, т.б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203E-5272-45B4-94F2-CD173B175E28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000" spc="-1" strike="noStrike">
                <a:solidFill>
                  <a:srgbClr val="b32c16"/>
                </a:solidFill>
                <a:latin typeface="Calibri"/>
              </a:rPr>
              <a:t>МІНДЕТТЕРІ: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Қаржы нарығының басқа нарықтармен өзара байланысын; қаржылық нарықтың құрылымын, бағалы қағаз нарығын топтастыруды игер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5BD1-FE8E-4554-80B5-1B38DEE2FCEB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285480"/>
            <a:ext cx="8229600" cy="62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Қаржы рыногы мен бағалы қағаздар рыногының өзара байланы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Номер слайда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FA7F-0E37-4055-8824-FD103E71165F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ая соединительная линия 10"/>
          <p:cNvSpPr/>
          <p:nvPr/>
        </p:nvSpPr>
        <p:spPr>
          <a:xfrm flipV="1">
            <a:off x="4642560" y="1785960"/>
            <a:ext cx="1800" cy="1440"/>
          </a:xfrm>
          <a:prstGeom prst="line">
            <a:avLst/>
          </a:prstGeom>
          <a:ln w="9360">
            <a:solidFill>
              <a:srgbClr val="bd6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Прямая соединительная линия 12"/>
          <p:cNvSpPr/>
          <p:nvPr/>
        </p:nvSpPr>
        <p:spPr>
          <a:xfrm flipV="1">
            <a:off x="4642560" y="2214720"/>
            <a:ext cx="714600" cy="1071360"/>
          </a:xfrm>
          <a:prstGeom prst="line">
            <a:avLst/>
          </a:prstGeom>
          <a:ln w="9360">
            <a:solidFill>
              <a:srgbClr val="bd6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Блок-схема: узел 18"/>
          <p:cNvSpPr/>
          <p:nvPr/>
        </p:nvSpPr>
        <p:spPr>
          <a:xfrm>
            <a:off x="857160" y="2571840"/>
            <a:ext cx="2428920" cy="1928880"/>
          </a:xfrm>
          <a:prstGeom prst="flowChartConnector">
            <a:avLst/>
          </a:prstGeom>
          <a:solidFill>
            <a:srgbClr val="eb6e5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Constantia"/>
              </a:rPr>
              <a:t>Ақша рыног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Блок-схема: узел 19"/>
          <p:cNvSpPr/>
          <p:nvPr/>
        </p:nvSpPr>
        <p:spPr>
          <a:xfrm>
            <a:off x="6000840" y="2357280"/>
            <a:ext cx="2928960" cy="2428920"/>
          </a:xfrm>
          <a:prstGeom prst="flowChartConnector">
            <a:avLst/>
          </a:prstGeom>
          <a:solidFill>
            <a:srgbClr val="eb6e5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Constantia"/>
              </a:rPr>
              <a:t>Капиталдар рыног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Блок-схема: узел 20"/>
          <p:cNvSpPr/>
          <p:nvPr/>
        </p:nvSpPr>
        <p:spPr>
          <a:xfrm>
            <a:off x="3643200" y="4000680"/>
            <a:ext cx="2357640" cy="2357280"/>
          </a:xfrm>
          <a:prstGeom prst="flowChartConnector">
            <a:avLst/>
          </a:prstGeom>
          <a:solidFill>
            <a:srgbClr val="eb6e5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Constantia"/>
              </a:rPr>
              <a:t>Бағалы қағаздар рыног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Стрелка вниз 21"/>
          <p:cNvSpPr/>
          <p:nvPr/>
        </p:nvSpPr>
        <p:spPr>
          <a:xfrm>
            <a:off x="4214880" y="1000080"/>
            <a:ext cx="1071360" cy="2643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e8637"/>
          </a:solidFill>
          <a:ln w="25560">
            <a:solidFill>
              <a:srgbClr val="29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Стрелка вниз 23"/>
          <p:cNvSpPr/>
          <p:nvPr/>
        </p:nvSpPr>
        <p:spPr>
          <a:xfrm>
            <a:off x="6786720" y="1000080"/>
            <a:ext cx="1285560" cy="11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29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Стрелка вниз 24"/>
          <p:cNvSpPr/>
          <p:nvPr/>
        </p:nvSpPr>
        <p:spPr>
          <a:xfrm>
            <a:off x="1500120" y="1500120"/>
            <a:ext cx="1214640" cy="9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29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Скругленный прямоугольник 5"/>
          <p:cNvSpPr/>
          <p:nvPr/>
        </p:nvSpPr>
        <p:spPr>
          <a:xfrm>
            <a:off x="3071880" y="2786040"/>
            <a:ext cx="3214800" cy="1214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Constantia"/>
              </a:rPr>
              <a:t>Облигациялардың түрлер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Блок-схема: узел 6"/>
          <p:cNvSpPr/>
          <p:nvPr/>
        </p:nvSpPr>
        <p:spPr>
          <a:xfrm>
            <a:off x="6143760" y="857160"/>
            <a:ext cx="2500200" cy="16430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Constantia"/>
              </a:rPr>
              <a:t>Кәсіпорында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Блок-схема: узел 8"/>
          <p:cNvSpPr/>
          <p:nvPr/>
        </p:nvSpPr>
        <p:spPr>
          <a:xfrm>
            <a:off x="3286080" y="857160"/>
            <a:ext cx="2214720" cy="15717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Constantia"/>
              </a:rPr>
              <a:t>Ипотекалы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Блок-схема: узел 9"/>
          <p:cNvSpPr/>
          <p:nvPr/>
        </p:nvSpPr>
        <p:spPr>
          <a:xfrm>
            <a:off x="571680" y="857160"/>
            <a:ext cx="2143080" cy="171468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Constantia"/>
              </a:rPr>
              <a:t>Агентті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Блок-схема: узел 10"/>
          <p:cNvSpPr/>
          <p:nvPr/>
        </p:nvSpPr>
        <p:spPr>
          <a:xfrm>
            <a:off x="1214280" y="4572000"/>
            <a:ext cx="2857680" cy="192888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Constantia"/>
              </a:rPr>
              <a:t>Қамтамасыз етілге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Блок-схема: узел 11"/>
          <p:cNvSpPr/>
          <p:nvPr/>
        </p:nvSpPr>
        <p:spPr>
          <a:xfrm>
            <a:off x="5143680" y="4643280"/>
            <a:ext cx="3214440" cy="18576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Constantia"/>
              </a:rPr>
              <a:t>Мемлекеттік еме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1" name="Соединительная линия уступом 16"/>
          <p:cNvCxnSpPr/>
          <p:nvPr/>
        </p:nvCxnSpPr>
        <p:spPr>
          <a:xfrm flipH="1" rot="16200000">
            <a:off x="1000080" y="2928600"/>
            <a:ext cx="1643760" cy="1072080"/>
          </a:xfrm>
          <a:prstGeom prst="bentConnector3">
            <a:avLst>
              <a:gd name="adj1" fmla="val 49989"/>
            </a:avLst>
          </a:prstGeom>
          <a:ln w="9360">
            <a:solidFill>
              <a:srgbClr val="0d0d0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2" name="Соединительная линия уступом 18"/>
          <p:cNvCxnSpPr/>
          <p:nvPr/>
        </p:nvCxnSpPr>
        <p:spPr>
          <a:xfrm flipH="1" rot="16200000">
            <a:off x="6357960" y="3214800"/>
            <a:ext cx="1929600" cy="643320"/>
          </a:xfrm>
          <a:prstGeom prst="bentConnector3">
            <a:avLst>
              <a:gd name="adj1" fmla="val 49990"/>
            </a:avLst>
          </a:prstGeom>
          <a:ln w="9360">
            <a:solidFill>
              <a:srgbClr val="0d0d0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3" name="Прямая со стрелкой 20"/>
          <p:cNvCxnSpPr/>
          <p:nvPr/>
        </p:nvCxnSpPr>
        <p:spPr>
          <a:xfrm>
            <a:off x="4285800" y="5500800"/>
            <a:ext cx="715320" cy="2160"/>
          </a:xfrm>
          <a:prstGeom prst="straightConnector1">
            <a:avLst/>
          </a:prstGeom>
          <a:ln w="9360">
            <a:solidFill>
              <a:srgbClr val="0d0d0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4" name="Прямая со стрелкой 34"/>
          <p:cNvCxnSpPr>
            <a:stCxn id="218" idx="6"/>
          </p:cNvCxnSpPr>
          <p:nvPr/>
        </p:nvCxnSpPr>
        <p:spPr>
          <a:xfrm>
            <a:off x="2714400" y="1714680"/>
            <a:ext cx="500760" cy="2160"/>
          </a:xfrm>
          <a:prstGeom prst="straightConnector1">
            <a:avLst/>
          </a:prstGeom>
          <a:ln w="9360">
            <a:solidFill>
              <a:srgbClr val="0d0d0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5" name="Прямая со стрелкой 36"/>
          <p:cNvCxnSpPr/>
          <p:nvPr/>
        </p:nvCxnSpPr>
        <p:spPr>
          <a:xfrm>
            <a:off x="5572080" y="1643040"/>
            <a:ext cx="357840" cy="2160"/>
          </a:xfrm>
          <a:prstGeom prst="straightConnector1">
            <a:avLst/>
          </a:prstGeom>
          <a:ln w="9360">
            <a:solidFill>
              <a:srgbClr val="0d0d0d"/>
            </a:solidFill>
            <a:miter/>
            <a:headEnd len="med" type="arrow" w="med"/>
            <a:tailEnd len="med" type="arrow" w="med"/>
          </a:ln>
        </p:spPr>
      </p:cxnSp>
      <p:sp>
        <p:nvSpPr>
          <p:cNvPr id="226" name="Номер слайда 3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28AB-E694-4C12-93C6-FC9515970BC1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зақстан Республикасының қатаң түрде орталықтандырылған жоспарлы экономикадан қа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алы жаңа, мемлекет тарапынан реттелініп отыратын рыноктық экономикаға көшуі елімізде оған қызмет көрсететін барлық институттармен бірге қаржы рыногының құрылуын талап етті.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за</a:t>
            </a:r>
            <a:r>
              <a:rPr b="0" i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 </a:t>
            </a:r>
            <a:r>
              <a:rPr b="0" i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жы рыногы б</a:t>
            </a:r>
            <a:r>
              <a:rPr b="0" i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-со</a:t>
            </a:r>
            <a:r>
              <a:rPr b="0" i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ң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 болган еме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005-9A1B-47F9-8EBC-99C4CC478B33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ceb500"/>
          </a:solidFill>
          <a:ln w="93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жы рыногы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, ең алдымен, дербес экономикалық категория ретінде ба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ы кағаздарды сату мен қайта сату жөніндегі операцияларды жүзеге асыру жолымен к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порындардың, фирмалардың, банктердің, жинақтаушы зейнетақы қорларының, са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ституттарының, мемлекеттің және халыктың уақытша бос ақшасын ж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дыруды, бөлуді ж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қайта бөлуді қамтамасыз ететін рыноктық қатынастардың жиынтыг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CEA3-D856-438C-BECA-74F6AC1098F0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 рыноктык қатынастар жүйесінің қ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ды бөлігі болып табылады, тауар ж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асқа рыноктармен: табиғи ресурстар, ж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 күші, т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ғын үй жэне басқа жылжымайтын, жер, алтын, сақтық рыноктарымен етене байланы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уашылық жүргізудің қазіргі жағдайында қаржы рыногы қаржы ресурстарын үздіксіз калыптастырып отырудың, оларды неғүрлым тиімді пайдаланудың, үлттық шаруашылықта ақша қозғалысын ұтымды ұйымдастырудың айрықша нысаны болып табылады және бағалы қағаздар рыногы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3674-B133-4D0D-A14D-3C763E54B4CF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1:28:55Z</dcterms:created>
  <dc:creator>1</dc:creator>
  <dc:description/>
  <dc:language>en-US</dc:language>
  <cp:lastModifiedBy>Admin</cp:lastModifiedBy>
  <dcterms:modified xsi:type="dcterms:W3CDTF">2012-01-12T11:31:26Z</dcterms:modified>
  <cp:revision>29</cp:revision>
  <dc:subject/>
  <dc:title>Қаржы рыногы</dc:title>
</cp:coreProperties>
</file>